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55F9-BC88-48C8-AE02-1E0FA7AAFB8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7C20-9BDD-4120-BED8-85CC4247233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812B-4C81-4FD9-A595-527481CE552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D9EC-86BB-4BEF-AB33-0B7A02BC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254-CB01-44D4-ACFF-4D71D8AB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0D4-8180-4D15-A22C-22E4B9A0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9DE3-6C03-4A46-BF6E-26DE9A23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B14C-A4B8-4205-B342-756076CA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2EF6-90BF-4678-92DE-046D9DA1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9664-5C4F-4DD9-87AD-2AEFB292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D0F2-0585-42B9-91DD-6D4A767A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5C7A-CF90-4160-A5CA-9CFEB5A2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53B9-3FF5-46F7-A827-F7FBBF56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ACD0-0C68-4C91-A752-8A1A3E5C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12D-3C0E-4AA0-B492-7123B3EB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8A73-BC0A-48F4-BCA3-49DE46E7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F312-F7DB-4302-A7BB-226E6AE3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6105-0089-43D4-86AF-4C1D7A5A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73D8-5894-47BD-920A-451B946C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6602-08FB-49BB-83DC-5DCDD09F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6264E-C73A-4DD4-A6FD-C28398D5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D7D69-C147-41CC-B9B1-2302C273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98E36-09BF-403D-89E0-1E523E2C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36F18-9F05-4F44-AB83-88918A3B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C4765-DAA4-43A0-AD14-E74F9950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0B2-BFF0-4961-B23F-234FB5A3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CD7CE-BB77-4BC5-B42E-4810C56A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085D5-7048-4E3B-BBAC-59095C92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6C3A2-635B-4DB7-91B5-7ABDB4AF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82199-6552-4D0E-BECB-8D1EA329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A30D2-5A94-431F-ABC9-B7DC9559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3DA6C-F17F-43FF-ADA2-B9A1D68E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7DF19-3624-44C7-8B27-D3E6C15F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EA44B-3AC7-4E0B-B0F0-C35401F0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FDE5D-DEBF-43C3-AC89-6F8A884B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4AF8B-54EA-4E5F-85F3-342E674E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5089-B62A-4DA7-A589-ADF8FEE5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342A6-25E1-4D3F-8A2A-72122673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F7EA4-B753-4E5F-8C23-92ACF9F1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477D6-1E80-45A7-A167-2D6D357B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AEB9B-E434-46F0-9A83-F4068CF4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5C50F-2109-4968-9C22-86D576CA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C637C-F4C2-4CC4-8C78-D98B49F4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AD56E-A12E-4EAC-A6EF-4788DC4B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BEEC0-91CE-42A7-B0A8-EF9BF799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E570F-2944-4493-A99A-ED44E626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25CB1-8D80-42DC-9273-F2AAE876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EA5B-B437-401B-899C-F5D77F5A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8982C-C55D-44CE-9F62-A0E4BC73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AC6C9-AF72-4838-BECE-AA04B998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3A596-24D2-4DEB-B06B-0DF13234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362C4-58CF-40B3-8117-CB74648B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89036-B46B-40C2-8F10-A910DDB6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FB281-DD83-41A7-B8FC-5110D1C1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C95F0-504E-4806-8C6F-FA90DA94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AC32D-631C-4F8B-AA5F-25C25B21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E6402-1D62-4715-BDFA-AAD5E8DC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C3536-11B0-443A-8198-FE436E7D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CE63-9F0D-4456-B2D9-5733C4D3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3EDB0-35C5-4224-B1AA-858C6C94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0BED1-5256-4960-991A-72593CE8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BF49F-E066-43FD-87FC-45E6F9CF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BDEAE-8FE1-455D-AAA3-B0700CB1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DFE90-DC97-4CDF-8C83-64A4AAF9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6E1F9-29F5-4160-9975-299701EA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1A272-D735-4B65-83C5-B0F981BB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C9C79-BE4B-4CC4-824F-AFB7FF5C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79E46-21D0-4822-925B-AE5A2B52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EA7EB-A96A-40A8-A00A-2214E6C8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5E20-6093-4947-89B5-CD2BB587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E99DB-3B87-47A3-892B-1041DD19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72354-1173-4F92-9750-78067FB7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1A80D-4398-48A4-84F9-9B51DC94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593E-488B-4137-8F73-03A2347A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3C51-3B3D-4046-840E-61A636D9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F03D-7BA2-4A49-8E0E-113AB81DB27F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3338-01E0-4D5C-9D60-E175490F4CE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A65C-D7EF-47F1-8ECD-CBF6D5D08C1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635B-1FC4-4528-A9A2-6A72799C513D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32E6-E366-46F3-9E6D-028007A2A6F2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C620-C3AF-4099-98EA-61041E6C890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044C-B9AE-471D-9A79-D6770F785DA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D671-76F8-43FA-8D5A-C01AADC8074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06D6-DD64-4531-BBFE-9CCBF40654D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8B3A-02C7-452B-BD35-E2DD1612B3C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A000-012A-475C-B7EB-0B418925617F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9A1F-7033-4B4B-A66A-AE7F72E894B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Julh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agost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34800" y="1268280"/>
            <a:ext cx="10801440" cy="52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Jul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51000" y="1484280"/>
            <a:ext cx="1078524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08014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de Jul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301680" y="1413000"/>
            <a:ext cx="1083456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34800" y="1270080"/>
            <a:ext cx="108014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de Jul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334800" y="1338120"/>
            <a:ext cx="1080144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Jul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334800" y="1535040"/>
            <a:ext cx="108014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l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334800" y="1417680"/>
            <a:ext cx="10801440" cy="510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Zila de Jesus de Oliveira - MPS</cp:lastModifiedBy>
  <cp:lastPrinted>2017-01-26T10:42:46Z</cp:lastPrinted>
  <dcterms:modified xsi:type="dcterms:W3CDTF">2017-08-23T18:41:30Z</dcterms:modified>
  <cp:revision>430</cp:revision>
  <dc:subject/>
  <dc:title>Demografia</dc:title>
</cp:coreProperties>
</file>